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11.gif" ContentType="image/gif"/>
  <Override PartName="/ppt/media/image14.png" ContentType="image/png"/>
  <Override PartName="/ppt/media/image10.wmf" ContentType="image/x-wmf"/>
  <Override PartName="/ppt/media/image2.png" ContentType="image/png"/>
  <Override PartName="/ppt/media/image22.gif" ContentType="image/gif"/>
  <Override PartName="/ppt/media/image9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28.gif" ContentType="image/gif"/>
  <Override PartName="/ppt/media/image6.jpeg" ContentType="image/jpeg"/>
  <Override PartName="/ppt/media/image26.wmf" ContentType="image/x-wmf"/>
  <Override PartName="/ppt/media/image4.png" ContentType="image/png"/>
  <Override PartName="/ppt/media/image27.png" ContentType="image/png"/>
  <Override PartName="/ppt/media/image25.wmf" ContentType="image/x-wmf"/>
  <Override PartName="/ppt/media/image24.wmf" ContentType="image/x-wmf"/>
  <Override PartName="/ppt/media/image23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jpeg" ContentType="image/jpe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8BCF-58BA-4C0E-AD8E-594113DA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88A6-6D28-41DF-BBF8-0062A335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7C3D-A849-492A-887E-1DAC5E8C8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229F-1569-478E-9EED-5F163BF5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D40A-0E8B-49AF-83D2-F12B029F2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A1E2-632E-42CA-8EAF-72F79FE6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0C98-41EA-41C2-AED1-15809628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993B-9671-47B4-9FCB-3D50D75F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D055-A5E2-4C03-BCCB-1E21A5E6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E6D7-5DE4-4814-AF90-624F48B9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908A-63FA-4244-AD21-56706ECF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1F9E-3360-4E39-8E9D-1B61B017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459D-1D67-4CFE-8D16-8FFEEAF1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2D15-91E3-4F92-BF76-24DDE5F7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4A63-335F-4C5D-9EC1-6E304ED3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8855-6BAB-417A-89E6-3752B65E6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75D5-291A-4834-840E-2771040C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B29E7-4E7F-4A22-BA47-A01598599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F0A83-FE9A-4C31-8072-9059C3D2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797DB-ECF3-47BA-A867-69CE22BA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42DCD-1581-44DE-BD76-46533C4A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688BB-94F1-494E-B4EC-5BEEE5B0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F69C-6DDC-4DF8-94C2-742B4519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17DED-1148-4D9E-957E-DF056BE7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6343C-DE78-4653-9D40-4447F6B3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0CFE6-ABAA-4907-B647-0BE82535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532B9-76A6-4530-ADAF-AEBF6E7E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9CC3A-7486-4761-93E2-BAA3ECC6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C1370-36E4-4354-B909-39B10AAA8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148C8-15E4-4CFF-AED6-2B5EDB2E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70B09-343D-49EE-9EE7-9654AAEF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F9C3C-76B6-4B57-A86C-65D6858C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30F91-5AF9-436E-B774-62C1DE6C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B74E-9EE4-4918-B83A-1B7EBD17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7669C-920A-45F5-8AAC-2C617356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48D66-12B4-4502-BAE0-243BF026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7EC53-5728-4945-90FB-9EA41760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DDC47-E042-487E-8E95-2B639D12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1339F-4943-41F0-A555-BBC14873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0D6AB-3572-4150-9AAB-45BE7931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E4C6B-AA2B-4CCA-8C3B-2E31C52B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4AB80-8A61-4986-BAC1-827E3C2F6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438B2-B184-49A9-8A0E-4F7299B0E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B1C2C-AD37-4E17-8C2D-D3B5ABF64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CCE4-DFD3-484F-9AC1-E8D22989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B9763-D365-468D-AE13-F3261EB3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26484-EC8B-4DBE-9412-B9346DCE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6F66A-CB26-4877-8E7C-3D946D6D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967F0-66E1-4D56-84EA-1B4E7D8C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4E140-FB79-4E86-BE48-DCB555FE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9731C-53F9-4AD7-8271-82424EBE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5F244-C509-4012-9D61-F98DB2A9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82817-C86F-43ED-9B2B-B8A5EE03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D804C-AA0E-4163-896F-CC7A2558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EB78B-6FAD-4776-AFD1-9CAB7570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0F89-1C65-41C8-9B6B-BBDD4CBD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41714-2F01-4738-9BC6-8BC0540B7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55778-8A9C-41DC-9E7C-392D453E4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4CAB5-B933-4746-B1E5-735712B5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8CA7E-501A-4492-B246-A26167D7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C238B-3154-444B-BA52-50FA6FE7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F21AA-8435-4D27-827E-3C7909DE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9F2AA-F771-4DF7-9944-1DD43D77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5D608-3D70-4B4C-9114-656DF76A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9C531-D989-4F74-AA3D-2693EB54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B814D-6876-4834-AFFD-51DDF648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EE53-A0C8-4590-9161-9F290937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85374-D1F1-45A5-BE55-04E23C77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B573F-BF74-4B86-9E59-A7532AAB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83BB6-6EE6-49A1-A3C5-53FA125A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FE181-EE48-494F-8148-B79A4E0E5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10893-09CB-4DB2-AF42-C7C714A6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6AB33-3D71-4641-B2D9-024A08BE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2B45B-7FE5-4550-B16B-4E0F00D0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B5173-E276-45B6-962D-2659785F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6448B-B9D4-40CD-BC09-332FA82B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76772-2C52-4CA9-B247-3D63349C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009C-DDDF-49DE-9ED5-8F6013E3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87539-5F65-4649-A5FB-774BE743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45FB0-4028-4397-932D-972B53CA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DBC09-036A-4303-B0AE-485114D7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A14B3-9150-4F9A-B699-D5F42914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3797A-FABB-48E5-B7E9-74C4BFB2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6CB5A-99B8-4F9B-8B5C-7F7C71B2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D8A84-CC43-418F-A139-7F06F628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DA684-3CC5-4A54-B0F0-C869D03F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06B70-D71B-4CF0-A6DD-9EC85317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CCA5B-66EA-4412-A117-EB53CFB6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4533-5879-45CB-A757-178FAA1E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741A7-7B1A-496E-A5C3-9CA42770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6CD5D-16F4-48FC-B56D-0045BC3D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A10B0-F9A8-4F21-A0F5-3F622F35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8E988-50D8-42B2-9D24-F0DB0B4B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69E75-6687-40F6-94DD-0BA57FC6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ECEF6-99AC-4D46-B8AA-A753120B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BA1E8-F043-440F-B945-37E01E3C4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AF92-3150-4C04-94DD-F8CE3AD8E6A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4E87-AEC9-48E4-8FE5-F3CEB3F74ED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0DDF-7119-45B3-BEDF-4896E5F3524B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3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2F20-B4DF-404A-8CAD-10A24E15BCD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8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AD49-467C-4276-96F4-2C5EF16E019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E4C1-9997-4003-BF22-F6F4AF41E43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2314-7C2F-4C33-B174-D99DF4AF29B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623B-BF47-4A10-8E18-DE9BE6832E2C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633240" y="895320"/>
            <a:ext cx="8321760" cy="25797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9" descr="a1"/>
          <p:cNvPicPr/>
          <p:nvPr/>
        </p:nvPicPr>
        <p:blipFill>
          <a:blip r:embed="rId2"/>
          <a:stretch/>
        </p:blipFill>
        <p:spPr>
          <a:xfrm>
            <a:off x="1063800" y="3500280"/>
            <a:ext cx="2936880" cy="3016440"/>
          </a:xfrm>
          <a:prstGeom prst="rect">
            <a:avLst/>
          </a:prstGeom>
          <a:ln w="0">
            <a:noFill/>
          </a:ln>
        </p:spPr>
      </p:pic>
      <p:sp>
        <p:nvSpPr>
          <p:cNvPr id="361" name="Дата 4"/>
          <p:cNvSpPr/>
          <p:nvPr/>
        </p:nvSpPr>
        <p:spPr>
          <a:xfrm>
            <a:off x="2286000" y="500040"/>
            <a:ext cx="327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eaee"/>
                </a:solidFill>
                <a:latin typeface="Times New Roman"/>
                <a:ea typeface="Times New Roman"/>
              </a:rPr>
              <a:t>24 октября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3929040" y="457200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«Чердынская СОШ им. А. Спирина», учитель: Светлана Владимировна Била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Овал 1"/>
          <p:cNvGrpSpPr/>
          <p:nvPr/>
        </p:nvGrpSpPr>
        <p:grpSpPr>
          <a:xfrm>
            <a:off x="1427040" y="2889360"/>
            <a:ext cx="792360" cy="792000"/>
            <a:chOff x="1427040" y="2889360"/>
            <a:chExt cx="792360" cy="792000"/>
          </a:xfrm>
        </p:grpSpPr>
        <p:pic>
          <p:nvPicPr>
            <p:cNvPr id="396" name="Овал 1" descr=""/>
            <p:cNvPicPr/>
            <p:nvPr/>
          </p:nvPicPr>
          <p:blipFill>
            <a:blip r:embed="rId1"/>
            <a:stretch/>
          </p:blipFill>
          <p:spPr>
            <a:xfrm>
              <a:off x="1427040" y="2889360"/>
              <a:ext cx="7923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1593720" y="3022560"/>
              <a:ext cx="4557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27 0.01342 C 0.09254 -0.10777 0.1658 -0.21299 0.26406 -0.22016 C 0.35799 -0.22918 0.44584 -0.14778 0.45174 -0.03006 C 0.4592 0.0784 0.39757 0.17993 0.30938 0.1871 C 0.229 0.19265 0.15261 0.12558 0.1467 0.02429 C 0.1408 -0.06799 0.19219 -0.15494 0.26684 -0.16211 C 0.33594 -0.16743 0.40052 -0.11124 0.40486 -0.02659 C 0.4092 0.0495 0.36823 0.1235 0.3066 0.12766 C 0.25087 0.13298 0.19809 0.08927 0.19358 0.02059 C 0.1908 -0.04093 0.22153 -0.1006 0.26997 -0.10407 C 0.3125 -0.10777 0.35504 -0.07516 0.35799 -0.02266 C 0.36077 0.02244 0.33889 0.06568 0.30347 0.06962 C 0.27431 0.07285 0.2434 0.0532 0.24184 0.01712 C 0.23906 -0.01202 0.25087 -0.04278 0.27275 -0.04625 C 0.29063 -0.04625 0.30816 -0.03908 0.31094 -0.01942 C 0.3125 -0.00647 0.30938 0.00602 0.3007 0.01134 C 0.29636 0.01342 0.2934 0.01342 0.28906 0.01134 E">
                                      <p:cBhvr>
                                        <p:cTn id="86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Овал 4"/>
          <p:cNvSpPr/>
          <p:nvPr/>
        </p:nvSpPr>
        <p:spPr>
          <a:xfrm>
            <a:off x="3581280" y="1828800"/>
            <a:ext cx="990720" cy="838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84 -0.13321 C 0.1007 -0.13321 0.16667 -0.07332 0.16667 -0.00024 C 0.16667 0.08649 0.09375 0.11748 0.04966 0.13066 L -0.0085 0.14431 C -0.05208 0.15749 -0.125 0.19079 -0.125 0.28839 C -0.125 0.3506 -0.05955 0.42183 0.02084 0.42183 C 0.1007 0.42183 0.16667 0.3506 0.16667 0.28839 C 0.16667 0.19079 0.09375 0.15749 0.04966 0.14431 L -0.0085 0.13066 C -0.05208 0.11748 -0.125 0.08649 -0.125 -0.00024 C -0.125 -0.07332 -0.05955 -0.13321 0.02084 -0.13321 Z">
                                      <p:cBhvr>
                                        <p:cTn id="92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401" name="Овал 3"/>
          <p:cNvSpPr/>
          <p:nvPr/>
        </p:nvSpPr>
        <p:spPr>
          <a:xfrm>
            <a:off x="3733920" y="2438280"/>
            <a:ext cx="685800" cy="685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25 -0.00555 L -0.26389 0.38298 L -0.2177 -0.00555 L -0.16857 0.38298 L -0.11961 -0.00555 L -0.07395 0.38298 L -0.02465 -0.00555 L 0.02153 0.38298 L 0.07084 -0.00555 L 0.11945 0.38298 L 0.16563 -0.00555 L 0.21476 0.38298 L 0.26042 -0.00555 L 0.30938 0.38298 L 0.35868 -0.00555 L 0.40486 0.38298 L 0.45417 -0.00555 E">
                                      <p:cBhvr>
                                        <p:cTn id="98" dur="5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Работа на компьютер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3" name="Picture 4" descr="C:\Documents and Settings\Пользователь\Рабочий стол\с1.jpg"/>
          <p:cNvPicPr/>
          <p:nvPr/>
        </p:nvPicPr>
        <p:blipFill>
          <a:blip r:embed="rId1"/>
          <a:stretch/>
        </p:blipFill>
        <p:spPr>
          <a:xfrm>
            <a:off x="1928880" y="2286000"/>
            <a:ext cx="4429080" cy="44290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1"/>
          <a:srcRect l="5628" t="5484" r="9664" b="41168"/>
          <a:stretch/>
        </p:blipFill>
        <p:spPr>
          <a:xfrm>
            <a:off x="1214280" y="857160"/>
            <a:ext cx="6864480" cy="5538960"/>
          </a:xfrm>
          <a:prstGeom prst="rect">
            <a:avLst/>
          </a:prstGeom>
          <a:ln w="0">
            <a:noFill/>
          </a:ln>
        </p:spPr>
      </p:pic>
      <p:sp>
        <p:nvSpPr>
          <p:cNvPr id="406" name="TextBox 2"/>
          <p:cNvSpPr/>
          <p:nvPr/>
        </p:nvSpPr>
        <p:spPr>
          <a:xfrm>
            <a:off x="2428920" y="500076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З В У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3"/>
          <p:cNvSpPr/>
          <p:nvPr/>
        </p:nvSpPr>
        <p:spPr>
          <a:xfrm>
            <a:off x="4286160" y="500076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З Н 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4"/>
          <p:cNvSpPr/>
          <p:nvPr/>
        </p:nvSpPr>
        <p:spPr>
          <a:xfrm>
            <a:off x="6215040" y="50007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М Ы Ш 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5"/>
          <p:cNvSpPr/>
          <p:nvPr/>
        </p:nvSpPr>
        <p:spPr>
          <a:xfrm>
            <a:off x="192888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 О С И Т Е Л 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6"/>
          <p:cNvSpPr/>
          <p:nvPr/>
        </p:nvSpPr>
        <p:spPr>
          <a:xfrm>
            <a:off x="385776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 И С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7"/>
          <p:cNvSpPr/>
          <p:nvPr/>
        </p:nvSpPr>
        <p:spPr>
          <a:xfrm>
            <a:off x="585792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А З Б У К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" descr="j0397224"/>
          <p:cNvPicPr/>
          <p:nvPr/>
        </p:nvPicPr>
        <p:blipFill>
          <a:blip r:embed="rId1"/>
          <a:stretch/>
        </p:blipFill>
        <p:spPr>
          <a:xfrm>
            <a:off x="7286760" y="5214960"/>
            <a:ext cx="1611000" cy="131616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652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лавное, что мы должны понять и запомни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2499840"/>
            <a:ext cx="822960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действие с информацией, обратное кодировани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кодированное сообщение можно декодировать, если известно правило кодирования или имеется кодировочная таблиц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нформацию, которая содержится в закодированном сообщении, человек может получить, только декодировав ег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5" name="Picture 5" descr="j0397202"/>
          <p:cNvPicPr/>
          <p:nvPr/>
        </p:nvPicPr>
        <p:blipFill>
          <a:blip r:embed="rId2"/>
          <a:stretch/>
        </p:blipFill>
        <p:spPr>
          <a:xfrm rot="13644600">
            <a:off x="7907760" y="4469040"/>
            <a:ext cx="1082520" cy="890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10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8" name="Picture 4" descr="j0410909"/>
          <p:cNvPicPr/>
          <p:nvPr/>
        </p:nvPicPr>
        <p:blipFill>
          <a:blip r:embed="rId1"/>
          <a:stretch/>
        </p:blipFill>
        <p:spPr>
          <a:xfrm>
            <a:off x="3000240" y="2786040"/>
            <a:ext cx="3600720" cy="290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Попробуйте дополнить предлож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егодня на уроке я узнал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было интересн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было трудн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Теперь я могу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егодня я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научился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У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меня получилось 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Я попробую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еня удивил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захотелось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22" name="Прямоугольник 3" descr=""/>
          <p:cNvPicPr/>
          <p:nvPr/>
        </p:nvPicPr>
        <p:blipFill>
          <a:blip r:embed="rId1"/>
          <a:stretch/>
        </p:blipFill>
        <p:spPr>
          <a:xfrm>
            <a:off x="633240" y="2225520"/>
            <a:ext cx="7907400" cy="1256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:\Documents and Settings\Пользователь\Рабочий стол\с2.jpg"/>
          <p:cNvPicPr/>
          <p:nvPr/>
        </p:nvPicPr>
        <p:blipFill>
          <a:blip r:embed="rId2"/>
          <a:stretch/>
        </p:blipFill>
        <p:spPr>
          <a:xfrm>
            <a:off x="3357720" y="3571920"/>
            <a:ext cx="2581200" cy="2774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4617b"/>
                </a:solidFill>
                <a:latin typeface="Calibri"/>
              </a:rPr>
              <a:t>Вспомни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чем люди кодируют информацию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ие способы кодирования ты знаеш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меняется ли смысл сообщения при кодировани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каком виде информация запоминается в памяти компьютер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5" name="Picture 5" descr="BD05012_"/>
          <p:cNvPicPr/>
          <p:nvPr/>
        </p:nvPicPr>
        <p:blipFill>
          <a:blip r:embed="rId1"/>
          <a:stretch/>
        </p:blipFill>
        <p:spPr>
          <a:xfrm>
            <a:off x="6715080" y="4572000"/>
            <a:ext cx="1779480" cy="1555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Автогонки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67" name="Picture 2" descr="C:\Documents and Settings\Пользователь\Рабочий стол\с3.jpg"/>
          <p:cNvPicPr/>
          <p:nvPr/>
        </p:nvPicPr>
        <p:blipFill>
          <a:blip r:embed="rId1"/>
          <a:stretch/>
        </p:blipFill>
        <p:spPr>
          <a:xfrm>
            <a:off x="428760" y="2000160"/>
            <a:ext cx="2643120" cy="21672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C:\Documents and Settings\Пользователь\Рабочий стол\с4.gif"/>
          <p:cNvPicPr/>
          <p:nvPr/>
        </p:nvPicPr>
        <p:blipFill>
          <a:blip r:embed="rId2"/>
          <a:stretch/>
        </p:blipFill>
        <p:spPr>
          <a:xfrm>
            <a:off x="2071800" y="3929040"/>
            <a:ext cx="6762600" cy="2536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6" descr="j0210200"/>
          <p:cNvPicPr/>
          <p:nvPr/>
        </p:nvPicPr>
        <p:blipFill>
          <a:blip r:embed="rId1"/>
          <a:stretch/>
        </p:blipFill>
        <p:spPr>
          <a:xfrm>
            <a:off x="920880" y="281160"/>
            <a:ext cx="7016760" cy="62164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1071720" y="2071800"/>
            <a:ext cx="69292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это действие с информацией, обратное кодировани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это, как и кодирование, изменение формы представления информации без изменения смысл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071720" y="1143000"/>
            <a:ext cx="6818040" cy="23162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1357200" y="3571920"/>
            <a:ext cx="6261120" cy="2438280"/>
          </a:xfrm>
          <a:prstGeom prst="rect">
            <a:avLst/>
          </a:prstGeom>
          <a:ln w="0">
            <a:noFill/>
          </a:ln>
        </p:spPr>
      </p:pic>
      <p:cxnSp>
        <p:nvCxnSpPr>
          <p:cNvPr id="373" name="Прямая со стрелкой 8"/>
          <p:cNvCxnSpPr/>
          <p:nvPr/>
        </p:nvCxnSpPr>
        <p:spPr>
          <a:xfrm>
            <a:off x="4143240" y="4428720"/>
            <a:ext cx="157248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4" name="Прямая со стрелкой 10"/>
          <p:cNvCxnSpPr/>
          <p:nvPr/>
        </p:nvCxnSpPr>
        <p:spPr>
          <a:xfrm>
            <a:off x="4143240" y="4857840"/>
            <a:ext cx="1572480" cy="357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5" name="Прямая со стрелкой 12"/>
          <p:cNvCxnSpPr/>
          <p:nvPr/>
        </p:nvCxnSpPr>
        <p:spPr>
          <a:xfrm>
            <a:off x="4143240" y="5214600"/>
            <a:ext cx="1572480" cy="42948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376" name="Прямая со стрелкой 14"/>
          <p:cNvCxnSpPr/>
          <p:nvPr/>
        </p:nvCxnSpPr>
        <p:spPr>
          <a:xfrm flipV="1">
            <a:off x="4143240" y="4785840"/>
            <a:ext cx="1572480" cy="8582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Лента лицом вверх 4"/>
          <p:cNvSpPr/>
          <p:nvPr/>
        </p:nvSpPr>
        <p:spPr>
          <a:xfrm>
            <a:off x="500040" y="5072040"/>
            <a:ext cx="8001000" cy="785880"/>
          </a:xfrm>
          <a:custGeom>
            <a:avLst/>
            <a:gdLst>
              <a:gd name="textAreaLeft" fmla="*/ 1320480 w 8001000"/>
              <a:gd name="textAreaRight" fmla="*/ 6680520 w 8001000"/>
              <a:gd name="textAreaTop" fmla="*/ 0 h 785880"/>
              <a:gd name="textAreaBottom" fmla="*/ 655200 h 785880"/>
            </a:gdLst>
            <a:ahLst/>
            <a:rect l="textAreaLeft" t="textAreaTop" r="textAreaRight" b="textAreaBottom"/>
            <a:pathLst>
              <a:path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1150"/>
                  <a:pt x="5845" y="21600"/>
                  <a:pt x="5425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3565" y="3600"/>
                </a:lnTo>
                <a:lnTo>
                  <a:pt x="3565" y="900"/>
                </a:lnTo>
                <a:cubicBezTo>
                  <a:pt x="3565" y="450"/>
                  <a:pt x="3985" y="0"/>
                  <a:pt x="4405" y="0"/>
                </a:cubicBezTo>
                <a:lnTo>
                  <a:pt x="17195" y="0"/>
                </a:lnTo>
                <a:cubicBezTo>
                  <a:pt x="17615" y="0"/>
                  <a:pt x="18035" y="450"/>
                  <a:pt x="18035" y="900"/>
                </a:cubicBezTo>
                <a:lnTo>
                  <a:pt x="18035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6175" y="21600"/>
                </a:lnTo>
                <a:cubicBezTo>
                  <a:pt x="15755" y="21600"/>
                  <a:pt x="15335" y="21150"/>
                  <a:pt x="15335" y="20700"/>
                </a:cubicBezTo>
                <a:lnTo>
                  <a:pt x="15335" y="18000"/>
                </a:lnTo>
                <a:close/>
              </a:path>
              <a:path fill="darkenLess"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0250"/>
                  <a:pt x="5845" y="19800"/>
                  <a:pt x="5425" y="19800"/>
                </a:cubicBezTo>
                <a:lnTo>
                  <a:pt x="4405" y="19800"/>
                </a:lnTo>
                <a:cubicBezTo>
                  <a:pt x="3985" y="19800"/>
                  <a:pt x="3565" y="19350"/>
                  <a:pt x="3565" y="18900"/>
                </a:cubicBezTo>
                <a:cubicBezTo>
                  <a:pt x="3565" y="18450"/>
                  <a:pt x="3985" y="18000"/>
                  <a:pt x="4405" y="18000"/>
                </a:cubicBezTo>
                <a:close/>
              </a:path>
              <a:path fill="darkenLess" w="21600" h="21600">
                <a:moveTo>
                  <a:pt x="15335" y="18000"/>
                </a:moveTo>
                <a:lnTo>
                  <a:pt x="15335" y="20700"/>
                </a:lnTo>
                <a:cubicBezTo>
                  <a:pt x="15335" y="20250"/>
                  <a:pt x="15755" y="19800"/>
                  <a:pt x="16175" y="19800"/>
                </a:cubicBezTo>
                <a:lnTo>
                  <a:pt x="17195" y="19800"/>
                </a:lnTo>
                <a:cubicBezTo>
                  <a:pt x="17615" y="19800"/>
                  <a:pt x="18035" y="19350"/>
                  <a:pt x="18035" y="18900"/>
                </a:cubicBezTo>
                <a:cubicBezTo>
                  <a:pt x="18035" y="18450"/>
                  <a:pt x="17615" y="18000"/>
                  <a:pt x="17195" y="18000"/>
                </a:cubicBezTo>
                <a:close/>
              </a:path>
              <a:path fill="darkenLess" w="21600" h="21600">
                <a:moveTo>
                  <a:pt x="3565" y="18900"/>
                </a:moveTo>
                <a:lnTo>
                  <a:pt x="3565" y="3600"/>
                </a:lnTo>
              </a:path>
              <a:path fill="darkenLess" w="21600" h="21600">
                <a:moveTo>
                  <a:pt x="18035" y="18900"/>
                </a:moveTo>
                <a:lnTo>
                  <a:pt x="18035" y="3600"/>
                </a:lnTo>
              </a:path>
            </a:pathLst>
          </a:custGeom>
          <a:solidFill>
            <a:srgbClr val="94f7d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Лента лицом вверх 3"/>
          <p:cNvSpPr/>
          <p:nvPr/>
        </p:nvSpPr>
        <p:spPr>
          <a:xfrm>
            <a:off x="500040" y="928800"/>
            <a:ext cx="8001000" cy="785880"/>
          </a:xfrm>
          <a:custGeom>
            <a:avLst/>
            <a:gdLst>
              <a:gd name="textAreaLeft" fmla="*/ 1320480 w 8001000"/>
              <a:gd name="textAreaRight" fmla="*/ 6680520 w 8001000"/>
              <a:gd name="textAreaTop" fmla="*/ 0 h 785880"/>
              <a:gd name="textAreaBottom" fmla="*/ 655200 h 785880"/>
            </a:gdLst>
            <a:ahLst/>
            <a:rect l="textAreaLeft" t="textAreaTop" r="textAreaRight" b="textAreaBottom"/>
            <a:pathLst>
              <a:path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1150"/>
                  <a:pt x="5845" y="21600"/>
                  <a:pt x="5425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3565" y="3600"/>
                </a:lnTo>
                <a:lnTo>
                  <a:pt x="3565" y="900"/>
                </a:lnTo>
                <a:cubicBezTo>
                  <a:pt x="3565" y="450"/>
                  <a:pt x="3985" y="0"/>
                  <a:pt x="4405" y="0"/>
                </a:cubicBezTo>
                <a:lnTo>
                  <a:pt x="17195" y="0"/>
                </a:lnTo>
                <a:cubicBezTo>
                  <a:pt x="17615" y="0"/>
                  <a:pt x="18035" y="450"/>
                  <a:pt x="18035" y="900"/>
                </a:cubicBezTo>
                <a:lnTo>
                  <a:pt x="18035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6175" y="21600"/>
                </a:lnTo>
                <a:cubicBezTo>
                  <a:pt x="15755" y="21600"/>
                  <a:pt x="15335" y="21150"/>
                  <a:pt x="15335" y="20700"/>
                </a:cubicBezTo>
                <a:lnTo>
                  <a:pt x="15335" y="18000"/>
                </a:lnTo>
                <a:close/>
              </a:path>
              <a:path fill="darkenLess"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0250"/>
                  <a:pt x="5845" y="19800"/>
                  <a:pt x="5425" y="19800"/>
                </a:cubicBezTo>
                <a:lnTo>
                  <a:pt x="4405" y="19800"/>
                </a:lnTo>
                <a:cubicBezTo>
                  <a:pt x="3985" y="19800"/>
                  <a:pt x="3565" y="19350"/>
                  <a:pt x="3565" y="18900"/>
                </a:cubicBezTo>
                <a:cubicBezTo>
                  <a:pt x="3565" y="18450"/>
                  <a:pt x="3985" y="18000"/>
                  <a:pt x="4405" y="18000"/>
                </a:cubicBezTo>
                <a:close/>
              </a:path>
              <a:path fill="darkenLess" w="21600" h="21600">
                <a:moveTo>
                  <a:pt x="15335" y="18000"/>
                </a:moveTo>
                <a:lnTo>
                  <a:pt x="15335" y="20700"/>
                </a:lnTo>
                <a:cubicBezTo>
                  <a:pt x="15335" y="20250"/>
                  <a:pt x="15755" y="19800"/>
                  <a:pt x="16175" y="19800"/>
                </a:cubicBezTo>
                <a:lnTo>
                  <a:pt x="17195" y="19800"/>
                </a:lnTo>
                <a:cubicBezTo>
                  <a:pt x="17615" y="19800"/>
                  <a:pt x="18035" y="19350"/>
                  <a:pt x="18035" y="18900"/>
                </a:cubicBezTo>
                <a:cubicBezTo>
                  <a:pt x="18035" y="18450"/>
                  <a:pt x="17615" y="18000"/>
                  <a:pt x="17195" y="18000"/>
                </a:cubicBezTo>
                <a:close/>
              </a:path>
              <a:path fill="darkenLess" w="21600" h="21600">
                <a:moveTo>
                  <a:pt x="3565" y="18900"/>
                </a:moveTo>
                <a:lnTo>
                  <a:pt x="3565" y="3600"/>
                </a:lnTo>
              </a:path>
              <a:path fill="darkenLess" w="21600" h="21600">
                <a:moveTo>
                  <a:pt x="18035" y="18900"/>
                </a:moveTo>
                <a:lnTo>
                  <a:pt x="18035" y="3600"/>
                </a:lnTo>
              </a:path>
            </a:pathLst>
          </a:custGeom>
          <a:solidFill>
            <a:srgbClr val="94f7d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856880" y="928800"/>
            <a:ext cx="5286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01 19 20 07 20  20 18 01 03 0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А С Т Ё Т   Т Р А В 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rcRect l="4294" t="65475" r="7156" b="11390"/>
          <a:stretch/>
        </p:blipFill>
        <p:spPr>
          <a:xfrm>
            <a:off x="642960" y="1928880"/>
            <a:ext cx="8039160" cy="2786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rcRect l="5204" t="5798" r="6053" b="63892"/>
          <a:stretch/>
        </p:blipFill>
        <p:spPr>
          <a:xfrm>
            <a:off x="2428920" y="714240"/>
            <a:ext cx="6286320" cy="28479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"/>
          <p:cNvPicPr/>
          <p:nvPr/>
        </p:nvPicPr>
        <p:blipFill>
          <a:blip r:embed="rId2"/>
          <a:srcRect l="5194" t="65475" r="6810" b="11390"/>
          <a:stretch/>
        </p:blipFill>
        <p:spPr>
          <a:xfrm>
            <a:off x="785880" y="3429000"/>
            <a:ext cx="7929360" cy="2765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j0404643"/>
          <p:cNvPicPr/>
          <p:nvPr/>
        </p:nvPicPr>
        <p:blipFill>
          <a:blip r:embed="rId3"/>
          <a:stretch/>
        </p:blipFill>
        <p:spPr>
          <a:xfrm>
            <a:off x="357120" y="1500120"/>
            <a:ext cx="1924200" cy="1677960"/>
          </a:xfrm>
          <a:prstGeom prst="rect">
            <a:avLst/>
          </a:prstGeom>
          <a:ln w="0">
            <a:noFill/>
          </a:ln>
        </p:spPr>
      </p:pic>
      <p:sp>
        <p:nvSpPr>
          <p:cNvPr id="384" name="TextBox 4"/>
          <p:cNvSpPr/>
          <p:nvPr/>
        </p:nvSpPr>
        <p:spPr>
          <a:xfrm>
            <a:off x="3571920" y="20001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О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6"/>
          <p:cNvSpPr/>
          <p:nvPr/>
        </p:nvSpPr>
        <p:spPr>
          <a:xfrm>
            <a:off x="5429160" y="20001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О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7"/>
          <p:cNvSpPr/>
          <p:nvPr/>
        </p:nvSpPr>
        <p:spPr>
          <a:xfrm>
            <a:off x="7286760" y="198756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И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8"/>
          <p:cNvSpPr/>
          <p:nvPr/>
        </p:nvSpPr>
        <p:spPr>
          <a:xfrm>
            <a:off x="350028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Х Л Е 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9"/>
          <p:cNvSpPr/>
          <p:nvPr/>
        </p:nvSpPr>
        <p:spPr>
          <a:xfrm>
            <a:off x="528624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З Н 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0"/>
          <p:cNvSpPr/>
          <p:nvPr/>
        </p:nvSpPr>
        <p:spPr>
          <a:xfrm>
            <a:off x="692928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З В У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9dd9"/>
                </a:solidFill>
                <a:latin typeface="Constantia"/>
              </a:rPr>
              <a:t>Минутка отдыха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Овал 1"/>
          <p:cNvGrpSpPr/>
          <p:nvPr/>
        </p:nvGrpSpPr>
        <p:grpSpPr>
          <a:xfrm>
            <a:off x="2852640" y="1749600"/>
            <a:ext cx="792360" cy="860400"/>
            <a:chOff x="2852640" y="1749600"/>
            <a:chExt cx="792360" cy="860400"/>
          </a:xfrm>
        </p:grpSpPr>
        <p:pic>
          <p:nvPicPr>
            <p:cNvPr id="393" name="Овал 1" descr=""/>
            <p:cNvPicPr/>
            <p:nvPr/>
          </p:nvPicPr>
          <p:blipFill>
            <a:blip r:embed="rId1"/>
            <a:stretch/>
          </p:blipFill>
          <p:spPr>
            <a:xfrm>
              <a:off x="2852640" y="1749600"/>
              <a:ext cx="79236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3022560" y="1890720"/>
              <a:ext cx="4557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521 0.16998 C 0.31129 0.02336 0.23629 -0.10384 0.13577 -0.11263 C 0.03959 -0.1235 -0.05017 -0.02474 -0.05625 0.11772 C -0.06371 0.24884 -0.000689999999999996 0.37188 0.08941 0.38067 C 0.1717 0.38714 0.24983 0.30527 0.25573 0.1834 C 0.26181 0.07169 0.2092 -0.03353 0.13281 -0.04278 C 0.06233 -0.04903 -0.00382 0.0192 -0.00833 0.12188 C -0.01267 0.21369 0.02917 0.30342 0.09219 0.30805 C 0.14931 0.31452 0.20313 0.26203 0.20781 0.17877 C 0.21077 0.1043 0.17917 0.03215 0.12969 0.02798 C 0.08629 0.02336 0.04271 0.06291 0.03959 0.1265 C 0.03681 0.18108 0.0592 0.23358 0.09531 0.23821 C 0.12535 0.24237 0.15677 0.21832 0.15834 0.17461 C 0.16129 0.13922 0.14931 0.10199 0.12691 0.09783 C 0.10868 0.09783 0.09063 0.10662 0.08785 0.13067 C 0.08629 0.14616 0.08941 0.16143 0.09827 0.1679 C 0.10261 0.16998 0.10573 0.16998 0.11025 0.1679 E">
                                      <p:cBhvr>
                                        <p:cTn id="80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7:35:54Z</dcterms:created>
  <dc:creator>1</dc:creator>
  <dc:description/>
  <dc:language>en-US</dc:language>
  <cp:lastModifiedBy>Пользователь</cp:lastModifiedBy>
  <dcterms:modified xsi:type="dcterms:W3CDTF">2012-10-24T04:41:13Z</dcterms:modified>
  <cp:revision>19</cp:revision>
  <dc:subject/>
  <dc:title>Декодирование информации</dc:title>
</cp:coreProperties>
</file>